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jpeg" ContentType="image/jpeg"/>
  <Override PartName="/ppt/media/image12.png" ContentType="image/png"/>
  <Override PartName="/ppt/media/image16.jpeg" ContentType="image/jpeg"/>
  <Override PartName="/ppt/media/image15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C0DA-9E91-4EB4-B92E-E08D6361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E44F-6D19-4729-8A15-672BC8E9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3A6C-31B7-4817-B709-264F8BDF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0416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5624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172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0416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85624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53E-D56D-431B-95D8-D46E6EB38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1EEBF-37BD-4162-807E-1264C7963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C3C0-C414-4ABF-938D-FEABDA85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21C9E-B1D7-46B0-BE06-ABF29759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F237-13F8-4E60-AE8A-66DF3A9F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D87B-F33D-415B-8D9C-97BE1322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3360" y="1523880"/>
            <a:ext cx="3565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24C6-920D-4885-B93F-F26A96D3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C31D-B656-4445-8D6B-B284EEAF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098-4795-4672-9FF3-8EE4AE30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9B58-C03F-41C4-8438-946ED733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BE66-7C36-463B-9967-52688E4F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05A1-ED54-43D1-8FDF-043813F8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9187-7957-48CB-A712-73AC1B5B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60416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85624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172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160416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285624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BCE7D-DB6B-4DFD-A30E-C64BA673B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64E60-2671-4372-8D6A-5894D774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2B256-428A-4A31-9C44-DB1A2D8D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41D30-775A-4B60-90EF-61FC6C72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A8E36-A3B9-4A23-B56D-8323A6FE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B31CA-EFD2-4215-BF87-E8C3426D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C497-F77B-4319-A4A0-51300051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3360" y="1523880"/>
            <a:ext cx="3565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D69A6-F91D-43F9-AC6D-F70C1A14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85A77-E7A5-4146-AA5E-0B8AE725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9BC11-1D56-4597-AB43-A2C7CC7C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D8B8F-C889-4134-AF38-8937C962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23379-520D-498F-9276-6FE147FC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0B02-7424-4976-B621-1D9D2433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60416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85624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5172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160416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285624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E43CA-0A1F-4A0E-B515-4BCC02032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1F7B4-F217-4C78-B389-B8ECFC827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CD1F6-D5BE-4BF1-B679-FBC37762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81219-AAEB-457C-A406-09C16167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9E3-8CA6-45D3-9D95-49D005A2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78A80-9E04-4773-9A39-0369ED7B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C7286-F321-4508-8949-BF26A820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3360" y="1523880"/>
            <a:ext cx="3565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D3419-F2EE-448A-8AEB-5D5DD35BB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3DE3A-59C2-474E-B9FA-0E78CB0C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5ED82-BB62-4F60-8458-BB5360CC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682D2-FFF3-406C-A25E-D9B894A7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B749C-1318-4B2A-8396-15C4A57C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D7BE3-992A-4630-BD28-69885DB0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416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285624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5172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60416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285624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63992-4A43-4ABF-B3CA-7172DEB7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CD390-F4B2-4D1E-858B-D45B5AF5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0A5-46B3-4151-B1A0-CA6102581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D3DF2-980E-4725-BD9A-ABD2CDD7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7C72C-FFE0-407B-BE92-282D6A7C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AC6D6-E990-4369-A73C-1DF2C721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BD073-B93A-47D7-9742-3DBF9DFC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3360" y="1523880"/>
            <a:ext cx="3565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7956E-5D7A-4974-B2B5-F7DDB18C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F4009-1CD5-4737-AC85-CD7C1168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138FF-78B7-4B61-B63C-A6185A1D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6788D4-2245-4079-B797-8EAC0736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049C1-9C45-4D1D-A158-AE706CEB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87F21-85E2-4F64-B779-E61C35478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3360" y="1523880"/>
            <a:ext cx="3565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6795-AEB3-4850-B4AE-15B92F6B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160416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85624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5172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160416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285624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E8AD7-169A-4D3C-A478-DE8CC01BA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9473B0-61C6-44C0-90E1-47F8B225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123DB-58EF-4997-8D2F-14567CD1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86692-4D48-462F-9377-0E5F13A0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D14B9-F4E9-42D5-86BC-E74D1D6B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9404F-CA06-45DD-A1F5-1D90816B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5013360" y="1523880"/>
            <a:ext cx="3565800" cy="53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06FDC-36D9-4C2D-8109-C9D00A07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FBC39-55B8-4EF7-8026-1621B648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9522C-065F-4CC7-89B3-C25EEC67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CE362-BA69-4919-B361-F9F12360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65F-8A1A-4FDA-8D67-525B531F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2F7FB-8290-4466-8EFA-8D264B31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7615E-0A55-4040-B47A-1147DA4D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60416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2856240" y="389844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5172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160416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2856240" y="5307480"/>
            <a:ext cx="119232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CFAB1-6BD8-4CFD-86B4-995D7F75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26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49640" y="530748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7158-9164-457F-B62C-DB87CDA6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172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249640" y="3898440"/>
            <a:ext cx="180720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1720" y="5307480"/>
            <a:ext cx="3703680" cy="12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A5D7-8334-4EF0-889B-E0388D0F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680" y="3124080"/>
            <a:ext cx="6476760" cy="191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ts val="5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00360"/>
            <a:ext cx="198396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959280" y="6300360"/>
            <a:ext cx="381276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275320" y="6300360"/>
            <a:ext cx="68544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1D7C88-9ACA-4336-B1C8-1B577B3DEBBE}" type="slidenum">
              <a:rPr b="0" lang="en-US" sz="1100" spc="-1" strike="noStrike">
                <a:solidFill>
                  <a:srgbClr val="000000"/>
                </a:solidFill>
                <a:latin typeface="Rockwel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735200"/>
            <a:ext cx="35658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2" marL="125568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3" marL="159696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4" marL="193824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648320" y="1735200"/>
            <a:ext cx="35658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8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2" marL="125568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3" marL="159696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4" marL="193824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2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7663320" y="6314400"/>
            <a:ext cx="1294920" cy="26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3942720" y="630576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7521480" y="5475960"/>
            <a:ext cx="1482840" cy="8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446B02-21B1-4858-A2BB-A6E878396D4E}" type="slidenum">
              <a: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1735200"/>
            <a:ext cx="73134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2" marL="125568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3" marL="159696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4" marL="193824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7663320" y="6314400"/>
            <a:ext cx="1294920" cy="26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942720" y="630576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521480" y="5475960"/>
            <a:ext cx="1482840" cy="8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3E9AA7-6D6D-49F0-9DCD-46015162EEC0}" type="slidenum">
              <a: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lick to edit Master title style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7663320" y="6314400"/>
            <a:ext cx="1294920" cy="26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11"/>
          </p:nvPr>
        </p:nvSpPr>
        <p:spPr>
          <a:xfrm>
            <a:off x="3942720" y="630576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2"/>
          </p:nvPr>
        </p:nvSpPr>
        <p:spPr>
          <a:xfrm>
            <a:off x="7521480" y="5475960"/>
            <a:ext cx="1482840" cy="8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874162-F75C-4C01-97D9-2ED9B863D8AF}" type="slidenum">
              <a: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body"/>
          </p:nvPr>
        </p:nvSpPr>
        <p:spPr>
          <a:xfrm>
            <a:off x="4645080" y="1735200"/>
            <a:ext cx="3565800" cy="19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2" marL="125568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3" marL="159696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4" marL="193824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body"/>
          </p:nvPr>
        </p:nvSpPr>
        <p:spPr>
          <a:xfrm>
            <a:off x="4645080" y="3871080"/>
            <a:ext cx="3565800" cy="19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8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2" marL="125568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0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3" marL="159696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1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4" marL="193824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2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 type="body"/>
          </p:nvPr>
        </p:nvSpPr>
        <p:spPr>
          <a:xfrm>
            <a:off x="914400" y="1735200"/>
            <a:ext cx="35658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3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Click to edit Master text styles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4"/>
              </a:buBlip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2" marL="125568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5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3" marL="159696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6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4" marL="1938240" indent="-3412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7"/>
              </a:buBlip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dt" idx="13"/>
          </p:nvPr>
        </p:nvSpPr>
        <p:spPr>
          <a:xfrm>
            <a:off x="7663320" y="6314400"/>
            <a:ext cx="1294920" cy="26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14"/>
          </p:nvPr>
        </p:nvSpPr>
        <p:spPr>
          <a:xfrm>
            <a:off x="3942720" y="630576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5"/>
          </p:nvPr>
        </p:nvSpPr>
        <p:spPr>
          <a:xfrm>
            <a:off x="7521480" y="5475960"/>
            <a:ext cx="1482840" cy="8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AEC6A1-2872-4A1B-92A1-D53FA09EF2FE}" type="slidenum">
              <a: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13"/>
          <p:cNvGrpSpPr/>
          <p:nvPr/>
        </p:nvGrpSpPr>
        <p:grpSpPr>
          <a:xfrm>
            <a:off x="156960" y="3301200"/>
            <a:ext cx="4401000" cy="3464640"/>
            <a:chOff x="156960" y="3301200"/>
            <a:chExt cx="4401000" cy="3464640"/>
          </a:xfrm>
        </p:grpSpPr>
        <p:sp>
          <p:nvSpPr>
            <p:cNvPr id="209" name="Rectangle 14"/>
            <p:cNvSpPr/>
            <p:nvPr/>
          </p:nvSpPr>
          <p:spPr>
            <a:xfrm rot="21214200">
              <a:off x="312840" y="3520440"/>
              <a:ext cx="4087800" cy="30171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oudy Old Style"/>
              </a:endParaRPr>
            </a:p>
          </p:txBody>
        </p:sp>
        <p:sp>
          <p:nvSpPr>
            <p:cNvPr id="210" name="Rectangle 15"/>
            <p:cNvSpPr/>
            <p:nvPr/>
          </p:nvSpPr>
          <p:spPr>
            <a:xfrm rot="21214200">
              <a:off x="313200" y="3520440"/>
              <a:ext cx="4087800" cy="30258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path path="rect">
                <a:fillToRect l="0" t="0" r="100000" b="100000"/>
              </a:path>
            </a:gradFill>
            <a:ln>
              <a:noFill/>
            </a:ln>
            <a:effectLst>
              <a:innerShdw blurRad="190500" dir="13500000" dist="88900">
                <a:schemeClr val="bg1">
                  <a:lumMod val="65000"/>
                  <a:alpha val="25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oudy Old Style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 rot="21214200">
            <a:off x="491040" y="3682440"/>
            <a:ext cx="3703680" cy="2696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Click icon to add picture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grpSp>
        <p:nvGrpSpPr>
          <p:cNvPr id="212" name="Group 9"/>
          <p:cNvGrpSpPr/>
          <p:nvPr/>
        </p:nvGrpSpPr>
        <p:grpSpPr>
          <a:xfrm>
            <a:off x="71640" y="106560"/>
            <a:ext cx="4283280" cy="3295440"/>
            <a:chOff x="71640" y="106560"/>
            <a:chExt cx="4283280" cy="3295440"/>
          </a:xfrm>
        </p:grpSpPr>
        <p:sp>
          <p:nvSpPr>
            <p:cNvPr id="213" name="Rectangle 10"/>
            <p:cNvSpPr/>
            <p:nvPr/>
          </p:nvSpPr>
          <p:spPr>
            <a:xfrm rot="232800">
              <a:off x="169560" y="241200"/>
              <a:ext cx="4087800" cy="301716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ffffff"/>
              </a:solidFill>
              <a:round/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oudy Old Style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 rot="232800">
              <a:off x="169200" y="241200"/>
              <a:ext cx="4087800" cy="302580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/>
                </a:gs>
              </a:gsLst>
              <a:path path="rect">
                <a:fillToRect l="0" t="0" r="100000" b="100000"/>
              </a:path>
            </a:gradFill>
            <a:ln>
              <a:noFill/>
            </a:ln>
            <a:effectLst>
              <a:innerShdw blurRad="190500" dir="13500000" dist="88900">
                <a:schemeClr val="bg1">
                  <a:lumMod val="65000"/>
                  <a:alpha val="25000"/>
                </a:schemeClr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Goudy Old Style"/>
              </a:endParaRPr>
            </a:p>
          </p:txBody>
        </p:sp>
      </p:grp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 rot="232800">
            <a:off x="346680" y="402840"/>
            <a:ext cx="3703680" cy="2696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Goudy Old Style"/>
              </a:rPr>
              <a:t>Click icon to add picture</a:t>
            </a:r>
            <a:endParaRPr b="0" lang="en-US" sz="18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4601"/>
              </a:lnSpc>
              <a:buNone/>
            </a:pPr>
            <a:r>
              <a:rPr b="1" lang="en-US" sz="4200" spc="-1" strike="noStrike">
                <a:solidFill>
                  <a:srgbClr val="000000"/>
                </a:solidFill>
                <a:latin typeface="Goudy Old Style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body"/>
          </p:nvPr>
        </p:nvSpPr>
        <p:spPr>
          <a:xfrm>
            <a:off x="5013360" y="2700000"/>
            <a:ext cx="3565800" cy="216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Click to edit Master text styles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dt" idx="16"/>
          </p:nvPr>
        </p:nvSpPr>
        <p:spPr>
          <a:xfrm>
            <a:off x="7663320" y="6314400"/>
            <a:ext cx="1294920" cy="26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100" spc="-1" strike="noStrike">
                <a:solidFill>
                  <a:srgbClr val="000000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100" spc="-1" strike="noStrike">
                <a:solidFill>
                  <a:srgbClr val="000000"/>
                </a:solidFill>
                <a:latin typeface="Rockwel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 type="ftr" idx="17"/>
          </p:nvPr>
        </p:nvSpPr>
        <p:spPr>
          <a:xfrm>
            <a:off x="3942720" y="6305760"/>
            <a:ext cx="3717720" cy="2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 type="sldNum" idx="18"/>
          </p:nvPr>
        </p:nvSpPr>
        <p:spPr>
          <a:xfrm>
            <a:off x="7521480" y="5475960"/>
            <a:ext cx="1482840" cy="85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DB5630-D90A-41EA-9C33-0B71756E23E4}" type="slidenum">
              <a:rPr b="0" lang="en-US" sz="8200" spc="-1" strike="noStrike">
                <a:solidFill>
                  <a:srgbClr val="000000">
                    <a:alpha val="10000"/>
                  </a:srgbClr>
                </a:solidFill>
                <a:latin typeface="Impact"/>
              </a:rPr>
              <a:t>&lt;number&gt;</a:t>
            </a:fld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panoramio.com/photo/26176178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209680" y="3124080"/>
            <a:ext cx="6476760" cy="1913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ts val="5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Ernest Hemingway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209680" y="5056560"/>
            <a:ext cx="6476760" cy="117360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t">
            <a:noAutofit/>
          </a:bodyPr>
          <a:p>
            <a:pPr indent="0" algn="ctr">
              <a:buNone/>
            </a:pP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Hemingway’s death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35200"/>
            <a:ext cx="73134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July 2 1961 by suicide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ather had committed suicide in the same fashion years earlier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Writing Style</a:t>
            </a: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	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35200"/>
            <a:ext cx="73134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Concise, short, lots of dialogue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Description of landscape has importance to story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ollows the ‘iceberg theory’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Gives little information, but most of his meaning is underneath the words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5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Was also known for ‘flash fiction’ –very very short story. His most famous one: “For sale. Baby shoes. Never worn.”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Placeholder 9" descr="images.jpg"/>
          <p:cNvPicPr/>
          <p:nvPr/>
        </p:nvPicPr>
        <p:blipFill>
          <a:blip r:embed="rId1"/>
          <a:srcRect l="0" t="-14983" r="0" b="-14983"/>
          <a:stretch/>
        </p:blipFill>
        <p:spPr>
          <a:xfrm rot="21214200">
            <a:off x="191520" y="3432600"/>
            <a:ext cx="4333680" cy="31554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Placeholder 8" descr="images-1.jpg"/>
          <p:cNvPicPr/>
          <p:nvPr/>
        </p:nvPicPr>
        <p:blipFill>
          <a:blip r:embed="rId2"/>
          <a:srcRect l="-18657" t="0" r="-18657" b="0"/>
          <a:stretch/>
        </p:blipFill>
        <p:spPr>
          <a:xfrm rot="232800">
            <a:off x="21240" y="150120"/>
            <a:ext cx="4560120" cy="332028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3360" y="1523880"/>
            <a:ext cx="3565800" cy="116172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>
              <a:lnSpc>
                <a:spcPts val="4601"/>
              </a:lnSpc>
              <a:buNone/>
            </a:pPr>
            <a:r>
              <a:rPr b="1" lang="en-US" sz="4200" spc="-1" strike="noStrike">
                <a:solidFill>
                  <a:srgbClr val="000000"/>
                </a:solidFill>
                <a:latin typeface="Goudy Old Style"/>
              </a:rPr>
              <a:t>`</a:t>
            </a:r>
            <a:endParaRPr b="0" lang="en-US" sz="4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3360" y="2700000"/>
            <a:ext cx="3565800" cy="216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295" name="Picture 10" descr="imgres.jpg"/>
          <p:cNvPicPr/>
          <p:nvPr/>
        </p:nvPicPr>
        <p:blipFill>
          <a:blip r:embed="rId3"/>
          <a:stretch/>
        </p:blipFill>
        <p:spPr>
          <a:xfrm>
            <a:off x="5013360" y="516240"/>
            <a:ext cx="382536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Early Life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735200"/>
            <a:ext cx="35658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Born in Oak Park Illinois in 1899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</a:pPr>
            <a:r>
              <a:rPr b="0" lang="en-US" sz="2000" spc="-1" strike="noStrike" u="sng">
                <a:solidFill>
                  <a:srgbClr val="c47810"/>
                </a:solidFill>
                <a:uFillTx/>
                <a:latin typeface="Goudy Old Style"/>
                <a:hlinkClick r:id="rId3"/>
              </a:rPr>
              <a:t>Hemingway birthplace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Wrote for the school newspaper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5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Career began writing for a newspaper in Kansas City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48320" y="1735200"/>
            <a:ext cx="35658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262" name="Picture 4" descr=""/>
          <p:cNvPicPr/>
          <p:nvPr/>
        </p:nvPicPr>
        <p:blipFill>
          <a:blip r:embed="rId6"/>
          <a:stretch/>
        </p:blipFill>
        <p:spPr>
          <a:xfrm>
            <a:off x="4480560" y="1735200"/>
            <a:ext cx="3747240" cy="346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Military Life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735200"/>
            <a:ext cx="35658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8320" y="1735200"/>
            <a:ext cx="35658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10760" indent="-41076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Joined a voluntary ambulance corps for the Italian army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marL="410760" indent="-41076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Served at the front and was wounded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marL="410760" indent="-41076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Spent considerable amount of time in hospitals (was background for Farewell to Arms)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marL="410760" indent="-41076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Met Agnes von Kurowsky- a nurse with whom he fell in love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1181160" y="2006640"/>
            <a:ext cx="2721960" cy="45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Paris Life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735200"/>
            <a:ext cx="73134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Met Hadley Richardson in Chicago and was married to her in 1921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Became the foreign correspondent for Toronto Star and they moved to Paris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Moved in a circle of expatriates and authors including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Gertrude Stein, Ezra Pound, Sylvia Beach, James Joyce and F. Scott Fitzgerald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</a:pPr>
            <a:r>
              <a:rPr b="0" lang="en-US" sz="2200" spc="-1" strike="noStrike">
                <a:solidFill>
                  <a:srgbClr val="000000"/>
                </a:solidFill>
                <a:latin typeface="Goudy Old Style"/>
              </a:rPr>
              <a:t>Wrote many of his early short stories here</a:t>
            </a: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Love Life and Key West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735200"/>
            <a:ext cx="73134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Fell in love with Pauline Pfeiffer-divorced Hadley-married Pauline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Moved to Key West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Worked on his novel Farewell to Arms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Spent much of his time deep sea fishing and went on a safari to Africa to do big game hunting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45080" y="1735200"/>
            <a:ext cx="3565800" cy="19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5080" y="3871080"/>
            <a:ext cx="3565800" cy="19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4400" y="1735200"/>
            <a:ext cx="35658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200" spc="-1" strike="noStrike">
              <a:solidFill>
                <a:srgbClr val="000000"/>
              </a:solidFill>
              <a:latin typeface="Goudy Old Style"/>
            </a:endParaRPr>
          </a:p>
        </p:txBody>
      </p:sp>
      <p:pic>
        <p:nvPicPr>
          <p:cNvPr id="275" name="Picture 13" descr=""/>
          <p:cNvPicPr/>
          <p:nvPr/>
        </p:nvPicPr>
        <p:blipFill>
          <a:blip r:embed="rId1"/>
          <a:stretch/>
        </p:blipFill>
        <p:spPr>
          <a:xfrm>
            <a:off x="914400" y="1735200"/>
            <a:ext cx="3876120" cy="4055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4" descr=""/>
          <p:cNvPicPr/>
          <p:nvPr/>
        </p:nvPicPr>
        <p:blipFill>
          <a:blip r:embed="rId2"/>
          <a:stretch/>
        </p:blipFill>
        <p:spPr>
          <a:xfrm>
            <a:off x="5042520" y="1735200"/>
            <a:ext cx="3168720" cy="22896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5" descr=""/>
          <p:cNvPicPr/>
          <p:nvPr/>
        </p:nvPicPr>
        <p:blipFill>
          <a:blip r:embed="rId3"/>
          <a:stretch/>
        </p:blipFill>
        <p:spPr>
          <a:xfrm>
            <a:off x="5640120" y="4025160"/>
            <a:ext cx="2009160" cy="23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War Time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735200"/>
            <a:ext cx="73134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raveled to Spain to report on the Spanish Civil War and met a journalist- Martha Gellhorn.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Divorced Pauline-married Martha and moved to Cuba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Began writing For Whom the Bell Tolls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ravelled with Martha throughout beginning of WWII not always in the same places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5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Met another correspondent – Mary Walsh ….married her next after a divorce from Martha Gellhorn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03280"/>
            <a:ext cx="731340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000000"/>
                </a:solidFill>
                <a:latin typeface="Goudy Old Style"/>
              </a:rPr>
              <a:t>Cuba and the later years</a:t>
            </a:r>
            <a:endParaRPr b="0" lang="en-US" sz="46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35200"/>
            <a:ext cx="7313400" cy="40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1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Returned to Cuba with Mary and worked on The Garden of Eden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2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Travelled to Africa again on safari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3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Experienced some devastating accidents that left him scarred for the rest of his life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SzPct val="100000"/>
              <a:buBlip>
                <a:blip r:embed="rId4"/>
              </a:buBlip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Won the Nobel Prize in Literature in 1954 for Old Man and the Sea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Placeholder 12" descr="images-1.jpg"/>
          <p:cNvPicPr/>
          <p:nvPr/>
        </p:nvPicPr>
        <p:blipFill>
          <a:blip r:embed="rId1"/>
          <a:srcRect l="-36508" t="0" r="-36508" b="0"/>
          <a:stretch/>
        </p:blipFill>
        <p:spPr>
          <a:xfrm rot="20556000">
            <a:off x="0" y="403200"/>
            <a:ext cx="3703320" cy="26967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"/>
          <p:cNvPicPr/>
          <p:nvPr/>
        </p:nvPicPr>
        <p:blipFill>
          <a:blip r:embed="rId2"/>
          <a:stretch/>
        </p:blipFill>
        <p:spPr>
          <a:xfrm>
            <a:off x="351720" y="3668760"/>
            <a:ext cx="2839320" cy="28594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3"/>
          <a:stretch/>
        </p:blipFill>
        <p:spPr>
          <a:xfrm>
            <a:off x="5690160" y="3736440"/>
            <a:ext cx="3361320" cy="2791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images.jpg"/>
          <p:cNvPicPr/>
          <p:nvPr/>
        </p:nvPicPr>
        <p:blipFill>
          <a:blip r:embed="rId4"/>
          <a:stretch/>
        </p:blipFill>
        <p:spPr>
          <a:xfrm rot="517800">
            <a:off x="5643000" y="555840"/>
            <a:ext cx="3238200" cy="2514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"/>
          <p:cNvPicPr/>
          <p:nvPr/>
        </p:nvPicPr>
        <p:blipFill>
          <a:blip r:embed="rId5"/>
          <a:stretch/>
        </p:blipFill>
        <p:spPr>
          <a:xfrm>
            <a:off x="2954160" y="1256040"/>
            <a:ext cx="3161160" cy="40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Inkwell">
  <a:themeElements>
    <a:clrScheme name="Inkwell">
      <a:dk1>
        <a:srgbClr val="000000"/>
      </a:dk1>
      <a:lt1>
        <a:srgbClr val="ffffff"/>
      </a:lt1>
      <a:dk2>
        <a:srgbClr val="584d2e"/>
      </a:dk2>
      <a:lt2>
        <a:srgbClr val="efe7c3"/>
      </a:lt2>
      <a:accent1>
        <a:srgbClr val="860908"/>
      </a:accent1>
      <a:accent2>
        <a:srgbClr val="4a0505"/>
      </a:accent2>
      <a:accent3>
        <a:srgbClr val="7a500a"/>
      </a:accent3>
      <a:accent4>
        <a:srgbClr val="c47810"/>
      </a:accent4>
      <a:accent5>
        <a:srgbClr val="827752"/>
      </a:accent5>
      <a:accent6>
        <a:srgbClr val="b5bb83"/>
      </a:accent6>
      <a:hlink>
        <a:srgbClr val="c47810"/>
      </a:hlink>
      <a:folHlink>
        <a:srgbClr val="f0a4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Inkwell">
  <a:themeElements>
    <a:clrScheme name="Inkwell">
      <a:dk1>
        <a:srgbClr val="000000"/>
      </a:dk1>
      <a:lt1>
        <a:srgbClr val="ffffff"/>
      </a:lt1>
      <a:dk2>
        <a:srgbClr val="584d2e"/>
      </a:dk2>
      <a:lt2>
        <a:srgbClr val="efe7c3"/>
      </a:lt2>
      <a:accent1>
        <a:srgbClr val="860908"/>
      </a:accent1>
      <a:accent2>
        <a:srgbClr val="4a0505"/>
      </a:accent2>
      <a:accent3>
        <a:srgbClr val="7a500a"/>
      </a:accent3>
      <a:accent4>
        <a:srgbClr val="c47810"/>
      </a:accent4>
      <a:accent5>
        <a:srgbClr val="827752"/>
      </a:accent5>
      <a:accent6>
        <a:srgbClr val="b5bb83"/>
      </a:accent6>
      <a:hlink>
        <a:srgbClr val="c47810"/>
      </a:hlink>
      <a:folHlink>
        <a:srgbClr val="f0a4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Inkwell">
  <a:themeElements>
    <a:clrScheme name="Inkwell">
      <a:dk1>
        <a:srgbClr val="000000"/>
      </a:dk1>
      <a:lt1>
        <a:srgbClr val="ffffff"/>
      </a:lt1>
      <a:dk2>
        <a:srgbClr val="584d2e"/>
      </a:dk2>
      <a:lt2>
        <a:srgbClr val="efe7c3"/>
      </a:lt2>
      <a:accent1>
        <a:srgbClr val="860908"/>
      </a:accent1>
      <a:accent2>
        <a:srgbClr val="4a0505"/>
      </a:accent2>
      <a:accent3>
        <a:srgbClr val="7a500a"/>
      </a:accent3>
      <a:accent4>
        <a:srgbClr val="c47810"/>
      </a:accent4>
      <a:accent5>
        <a:srgbClr val="827752"/>
      </a:accent5>
      <a:accent6>
        <a:srgbClr val="b5bb83"/>
      </a:accent6>
      <a:hlink>
        <a:srgbClr val="c47810"/>
      </a:hlink>
      <a:folHlink>
        <a:srgbClr val="f0a4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Inkwell">
  <a:themeElements>
    <a:clrScheme name="Inkwell">
      <a:dk1>
        <a:srgbClr val="000000"/>
      </a:dk1>
      <a:lt1>
        <a:srgbClr val="ffffff"/>
      </a:lt1>
      <a:dk2>
        <a:srgbClr val="584d2e"/>
      </a:dk2>
      <a:lt2>
        <a:srgbClr val="efe7c3"/>
      </a:lt2>
      <a:accent1>
        <a:srgbClr val="860908"/>
      </a:accent1>
      <a:accent2>
        <a:srgbClr val="4a0505"/>
      </a:accent2>
      <a:accent3>
        <a:srgbClr val="7a500a"/>
      </a:accent3>
      <a:accent4>
        <a:srgbClr val="c47810"/>
      </a:accent4>
      <a:accent5>
        <a:srgbClr val="827752"/>
      </a:accent5>
      <a:accent6>
        <a:srgbClr val="b5bb83"/>
      </a:accent6>
      <a:hlink>
        <a:srgbClr val="c47810"/>
      </a:hlink>
      <a:folHlink>
        <a:srgbClr val="f0a4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Inkwell">
  <a:themeElements>
    <a:clrScheme name="Inkwell">
      <a:dk1>
        <a:srgbClr val="000000"/>
      </a:dk1>
      <a:lt1>
        <a:srgbClr val="ffffff"/>
      </a:lt1>
      <a:dk2>
        <a:srgbClr val="584d2e"/>
      </a:dk2>
      <a:lt2>
        <a:srgbClr val="efe7c3"/>
      </a:lt2>
      <a:accent1>
        <a:srgbClr val="860908"/>
      </a:accent1>
      <a:accent2>
        <a:srgbClr val="4a0505"/>
      </a:accent2>
      <a:accent3>
        <a:srgbClr val="7a500a"/>
      </a:accent3>
      <a:accent4>
        <a:srgbClr val="c47810"/>
      </a:accent4>
      <a:accent5>
        <a:srgbClr val="827752"/>
      </a:accent5>
      <a:accent6>
        <a:srgbClr val="b5bb83"/>
      </a:accent6>
      <a:hlink>
        <a:srgbClr val="c47810"/>
      </a:hlink>
      <a:folHlink>
        <a:srgbClr val="f0a4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Inkwell">
  <a:themeElements>
    <a:clrScheme name="Inkwell">
      <a:dk1>
        <a:srgbClr val="000000"/>
      </a:dk1>
      <a:lt1>
        <a:srgbClr val="ffffff"/>
      </a:lt1>
      <a:dk2>
        <a:srgbClr val="584d2e"/>
      </a:dk2>
      <a:lt2>
        <a:srgbClr val="efe7c3"/>
      </a:lt2>
      <a:accent1>
        <a:srgbClr val="860908"/>
      </a:accent1>
      <a:accent2>
        <a:srgbClr val="4a0505"/>
      </a:accent2>
      <a:accent3>
        <a:srgbClr val="7a500a"/>
      </a:accent3>
      <a:accent4>
        <a:srgbClr val="c47810"/>
      </a:accent4>
      <a:accent5>
        <a:srgbClr val="827752"/>
      </a:accent5>
      <a:accent6>
        <a:srgbClr val="b5bb83"/>
      </a:accent6>
      <a:hlink>
        <a:srgbClr val="c47810"/>
      </a:hlink>
      <a:folHlink>
        <a:srgbClr val="f0a43a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nkwell.thmx</Template>
  <TotalTime>1308</TotalTime>
  <Application>LibreOffice/7.4.7.2$Linux_X86_64 LibreOffice_project/40$Build-2</Application>
  <AppVersion>15.0000</AppVersion>
  <Words>381</Words>
  <Paragraphs>43</Paragraphs>
  <Company>Peoria Notre Dame High Schoo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2T19:07:36Z</dcterms:created>
  <dc:creator>ndadmin</dc:creator>
  <dc:description/>
  <dc:language>en-US</dc:language>
  <cp:lastModifiedBy>Katie Hausauer</cp:lastModifiedBy>
  <dcterms:modified xsi:type="dcterms:W3CDTF">2014-10-22T19:39:03Z</dcterms:modified>
  <cp:revision>4</cp:revision>
  <dc:subject/>
  <dc:title>Ernest Hemingw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12</vt:r8>
  </property>
</Properties>
</file>